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199-0115-4AD9-BCB2-97632E6D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1C3F-7583-498B-8BAC-60E23329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19A-57E2-4CF8-BAD9-D727F047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0BC-6904-42ED-9E1E-0037F332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E4C-AEE0-4CB1-B249-5394C1BB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19DF-84A0-4F40-9855-95325F76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7D3-0F6D-4778-9A17-3594C6B8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455-6D6A-4876-BD58-BA81E25F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D5C-341D-4686-9B68-2A3A5024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D48-CEA1-4AF2-8F4C-9DF1B99E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AE9-5A7C-40E6-9A3D-747DAA54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2F7-5575-4619-8394-9D4FB3DF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91F8-C564-477E-8BE8-0E7C5A086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mdb.com/media/rm1476631808/tt0063878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Familias Famo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milia Br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876920" cy="5333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3657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50080" y="25146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7480" y="48006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144792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9080" y="17524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8040" y="38098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08040" y="4572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2240" y="243828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3440" y="13716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00240" y="1676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095880" y="20574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6171840" y="3429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333760" y="4343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8098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81080" y="373356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057400" y="22096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milia Add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239724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3408480" y="-1006560"/>
            <a:ext cx="1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3409920" y="-96048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66680" y="239724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-3409920" y="1371600"/>
          <a:ext cx="1428840" cy="5176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3430080" y="6398640"/>
            <a:ext cx="3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3657600" y="2819520"/>
          <a:ext cx="257040" cy="45280080"/>
        </p:xfrm>
        <a:graphic>
          <a:graphicData uri="http://schemas.openxmlformats.org/drawingml/2006/table">
            <a:tbl>
              <a:tblPr/>
              <a:tblGrid>
                <a:gridCol w="257040"/>
              </a:tblGrid>
              <a:tr h="45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914400" y="1523880"/>
            <a:ext cx="73915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milia Br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229068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3408480" y="-1112760"/>
            <a:ext cx="1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3409920" y="-106668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447920" y="-609480"/>
            <a:ext cx="10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229068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88920" y="563868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-2819520" y="4495680"/>
          <a:ext cx="533520" cy="44848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5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133720" y="1143000"/>
            <a:ext cx="4876560" cy="6324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2743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4648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50320" y="2590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50320" y="35053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464832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7320" y="22860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12400" y="3505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12040" y="4572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milia Br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58672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6:54:03Z</dcterms:created>
  <dc:creator>mpitts</dc:creator>
  <dc:description/>
  <dc:language>en-US</dc:language>
  <cp:lastModifiedBy>mpitts</cp:lastModifiedBy>
  <dcterms:modified xsi:type="dcterms:W3CDTF">2008-04-25T22:49:49Z</dcterms:modified>
  <cp:revision>7</cp:revision>
  <dc:subject/>
  <dc:title>Slide 1</dc:title>
</cp:coreProperties>
</file>